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5FF6-F0D3-42BD-B109-655AD29DE6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905C-A7C6-48A2-85A4-01112C92E7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5AAA-6B2B-484E-8BBE-B2FA95B198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BBEF-7AF9-48E3-9E66-1B1E550577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2B8C-8BEC-4B83-9BE5-D4E4C69C0C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8A38-5BA4-44F1-91A5-6B672AAEDE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E8B2-5D6B-4A2B-AD5C-82C82DE9C6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FBB6-C50F-4E6B-90FF-0359404D9C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E5D7-76AF-452B-B453-8939F22F78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7EE6-6CBC-475A-AFF0-E21A130B5E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95B8-A152-404F-B99F-52D06CE991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6B47-6CD0-4DEC-9A39-33930E0073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8C76-209B-4E4E-B51F-46D55BD4D3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4BE3-9571-4E83-8F9C-C8DEE49600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CBE0-3856-4757-AA46-FEDF8E7D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6EE7-06CD-4317-99A9-17D5E623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8FE7E-20CB-404C-AF07-5FAE5D87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1C5AD-465C-444A-BC28-648B572C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C96D6-E53D-4FEC-B0BC-558BD590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3891D-46DF-40EE-AC55-13737494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61BAF-ACBA-4E88-8970-6287FB40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EE2F9-0165-4C8D-9572-CFA27C87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6187A-847A-4832-9633-B8B0247D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BECB7-188E-4FA0-92B2-2AAE8ADE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C3E40-B01D-42BA-9BB4-AD910FA6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BD949-4261-453E-8CD3-E53FD853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42C1-56CF-4FC8-B383-01F8E2B3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81C04-7A9B-43E5-899A-5B5ABA2C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502FE-581D-45FB-BB23-1054415B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DB6E0-0D20-4CEA-8213-055543F8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58595-7BCB-4A9A-A588-556A0766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AD53D-D089-440D-AA4D-8AF7BD5A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78480-3CDD-463D-B0E6-9AD397FA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5311B-AE3F-4BE0-B42B-F77F534E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3369E-D645-43D6-9FA1-3947660E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6BCF4-5DF8-4275-BA04-92ACEBEC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85749-FE5C-49DE-BAFE-F1667E6A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16E-14F4-4AD8-9F9D-7C00A07A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93D65-1190-46A9-8CB6-9A0D5EC7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9DCE4-FB6D-4D71-A742-6719D058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8E2A0-0F72-4BDD-965D-F42A58DC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72601-3B49-4017-8475-2484155B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79A4F-DE84-4512-820B-D9B6753D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E3AD7-2D59-4956-85AA-4DB7240B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2B117-EFF5-4FF4-96C9-7598547A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04099-5E82-4F7B-846E-5AB5A199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52C8C-C176-4332-8D6A-DB3C5C44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E1DA6-EA31-4519-BA3B-04B63EE0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2D78-FA53-46D3-B8F3-BD5D3D04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E0182-6BC7-4841-A9EA-04C0AAA4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D245E-7726-4CF8-847D-0186B378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7AC45-E2E4-49C2-85DF-AA3E6E7C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9FD24-9D97-462E-9764-85875031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247C2-F28F-4AC7-8C64-F19463BA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3D9A1-1D6A-44D0-96B1-748E7123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A3986-3A3A-4D91-B7CE-F9D4B65B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DE5A9-4E31-4F65-B79F-7D8C5907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9D2E4-B4B1-463A-8E81-BDAA9A41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773F5-59DB-4DDF-A66D-E14825B4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20F2-8FE4-4B7A-AC95-BD9AD99C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850DD-A312-4EF8-B3AD-05AF10C9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642D0-F2AB-4F0F-8CA7-0E9E1995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4625C-31EF-45AB-85C8-883A0A06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04355-64B7-42B5-A950-9F9EA0D0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3CC09-19EE-4F74-8D4E-A32A4662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86D8-D878-4AC8-BB43-04D7707D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6F38-34E9-4330-A831-B678C1F5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F75E-9827-472C-A928-ED0FB5A9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17CC-5E35-48B4-B128-91A7E568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B246-FA6F-4EAF-8BA9-763615CE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F141-3F1D-4EA3-8A52-56D2E03E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F5DF-549A-4BA5-8038-F2AF1124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2ED9-3AC8-4017-B456-A1640B8D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5D20-CD2D-44C9-B720-EBD99A78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92BE-7275-4353-89FB-7AA23CB3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3183-6265-46EC-A71F-BAB81157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CA8E3-0BA4-4094-9620-6E4AC580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37DF8-EA87-4EBA-BA3D-CB1B93C2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15F18-44F2-43B2-8F74-48C79111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08764-817D-420D-8F6A-985D2DB4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7A1D9-4F64-4B0C-8E40-ACF494BB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7595-A054-447F-9B62-805A51FC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0285F-30AB-462F-AE21-BFEAE341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A5BD3-60FE-4482-939B-4332B0EB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B01A1-7F09-425F-BD92-B7204B53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2D107-5477-4AF2-B9C0-7C0A3350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67A4B-2755-4FA8-8C8E-9E674783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72280-DA46-4D4C-83EF-27552AA7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611A4-0494-4309-A559-446070DA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4748A-0861-406F-B67C-3FA47509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E4D4B-9B30-4D0C-A13E-9BE10E86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E4BA4-6FE0-4BE2-9C04-C6542A04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4660-0E9B-476C-9CEF-5276C59C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2E8A4-E378-4121-A56D-889594A6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4F3F7-CE8A-4004-9F2E-5C910716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1AE80-5C27-47DD-8915-9A75E5A1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DACC2-87FB-47AD-8384-FAE95B9A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DAC56-D311-4977-A0E8-57FD845E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1A6E8-10E4-459E-BA93-6AF42D57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F9E5D-9AD3-4CA0-83F7-D0D1A3A2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DBAF2-D114-4C6F-A408-593F5CDC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029E4-109D-4A1D-ADD7-A4443B79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2ECEC-A10A-4E2C-A37B-2EBA538A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9A4D-CD95-434D-97CD-AF4C2753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E2593-F703-494F-A674-7523FF0E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FDDFF-8131-4F12-B798-34364935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C75F6-65E5-442C-819A-4F7A9256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376B1-D090-43C5-8BD7-09BF330F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66C8F-46EA-49FA-969F-934E5CC8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F14DF-474E-466C-8521-87478BEE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F7A8E-C74A-49D2-82ED-AE9EC8AA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00DF8-10E4-430C-B890-E42E10D9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7A8EB-DFBC-4710-AAD0-F64ED421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058B0-1110-4579-B8C7-92615BB8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012E-35DB-44C5-B659-2786E05F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E984C-7FB0-475B-83C4-D7FFC202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A472A-1980-407B-9DB1-FEEA1733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01A38-26A2-4214-9651-8B65088C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F6D45-028F-4F3D-AED4-0B19FDC5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3A383-6355-4355-91E2-6BB4D03F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5284D-8F6F-4389-90B9-8B41DDFF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C2B10-9ED3-4F83-B540-41DF7E7E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3DA8E-F0B2-4BA4-83BD-6BC7CC10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EB6A1-71CD-49E0-AA8E-1406E2E2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B0503-9045-47B0-B8E5-8528B7D3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4C4-99CD-4F31-8406-67DCE588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91A07-0D78-4360-9F10-A5B8E442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0F4A0-A6FB-4BC4-8E88-79CDA2FC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1BB70-5915-44D8-B209-319CD1DF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7558F-732C-4732-9F7B-D707C4A8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AF6F4-1DC5-4369-A2F4-EAE2946D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C240B-0A8E-4957-8B97-D809636F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C2D19-1C7E-4081-8828-8CC3B9CA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BEE16-338A-4DAA-B736-65B86D77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B6DAC-CAB9-4B67-BA86-DA9349B6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424FA-D5DA-47FD-86D9-3ED6E39A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B385-300D-40D3-BF2F-F80FFF71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091B0-21C7-4A89-B3E2-26B9C6E2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C8210-10A1-4A23-AC99-D684AB5E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E9B69-F6D4-49BF-9E4C-14C1D8E7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6AD30-3029-4207-BF75-568596CC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DB91B-D823-45BE-974C-2CE2797D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72276-F381-47E5-B4E1-2A2B10EA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80B3D-44DC-4E0C-A6C5-752FEE77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E68DE-0F00-464E-B6F8-A37E58E5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D2DFE-D105-4484-8C14-CC084959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BA08A-F99C-4887-B689-21C07045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F618-5128-4A0F-A2D9-703D6438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5A49E-78D7-43C3-A325-D1967FB2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09747-6EC2-46B0-9385-93362F9B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F80BA-88CE-428C-8132-879F929B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86A3E-E110-4076-B960-BE8DCC41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4F262-A25A-4C6C-9EFB-7B8F8F8E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7428A-5D39-46E7-A431-29834688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DBC9D-91AA-4DE4-922A-CB1C5BCD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4D962-6C8F-4BF1-9AEB-FF04E1A6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76D05-D62C-43CE-A57C-DA922616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CC564-47A5-4AE9-8938-58CDD46A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4ede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4A95-7CAC-4BB8-AFAA-D7AE838EDEA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4ede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8" name="Прямоугольный треугольник 1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0" name="Прямая соединительная линия 18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1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0b6b9"/>
              </a:gs>
              <a:gs pos="100000">
                <a:srgbClr val="c9ecef"/>
              </a:gs>
            </a:gsLst>
            <a:lin ang="16200000"/>
          </a:gradFill>
          <a:ln cap="rnd" w="3240">
            <a:solidFill>
              <a:srgbClr val="89a4a7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0b6b9"/>
              </a:gs>
              <a:gs pos="100000">
                <a:srgbClr val="c9ecef"/>
              </a:gs>
            </a:gsLst>
            <a:lin ang="16200000"/>
          </a:gradFill>
          <a:ln cap="rnd" w="3240">
            <a:solidFill>
              <a:srgbClr val="89a4a7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0808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BC7E-A1DE-4572-AA14-0E99C951CCA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6B4C-6457-4722-8CD1-AA2703917D6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9430-0861-4562-A8FD-6431907D4D0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b9397"/>
              </a:gs>
              <a:gs pos="50000">
                <a:srgbClr val="bbebef"/>
              </a:gs>
              <a:gs pos="100000">
                <a:srgbClr val="6b93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4ede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ABD9-353A-4226-B1B1-E330974992B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9F73-E955-414E-9C3E-6CF61198750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0b6b9"/>
              </a:gs>
              <a:gs pos="100000">
                <a:srgbClr val="c9ecef"/>
              </a:gs>
            </a:gsLst>
            <a:lin ang="16200000"/>
          </a:gradFill>
          <a:ln cap="rnd" w="3240">
            <a:solidFill>
              <a:srgbClr val="89a4a7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0b6b9"/>
              </a:gs>
              <a:gs pos="100000">
                <a:srgbClr val="c9ecef"/>
              </a:gs>
            </a:gsLst>
            <a:lin ang="16200000"/>
          </a:gradFill>
          <a:ln cap="rnd" w="3240">
            <a:solidFill>
              <a:srgbClr val="89a4a7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0808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F0F8-00D3-4D59-AD44-9977B44EFF7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0808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E421-B53E-4A2A-9678-0765B378959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EDB0-330C-4D25-9429-68CB0D75F31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0808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1EB1-D618-482C-89A3-D7ABC97AEB3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7996-1DDD-4EDE-ADFE-EBE8DC725A2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3528-3BC4-42B2-992C-85270805B00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4"/>
          <p:cNvSpPr/>
          <p:nvPr/>
        </p:nvSpPr>
        <p:spPr>
          <a:xfrm>
            <a:off x="287280" y="1619280"/>
            <a:ext cx="514836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кол зазвучал  монотонно  и 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(ЖЕ)  время трев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5"/>
          <p:cNvSpPr/>
          <p:nvPr/>
        </p:nvSpPr>
        <p:spPr>
          <a:xfrm>
            <a:off x="287280" y="2879640"/>
            <a:ext cx="5148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меня попросил,  ЧТО(БЫ)   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ёл пора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6"/>
          <p:cNvSpPr/>
          <p:nvPr/>
        </p:nvSpPr>
        <p:spPr>
          <a:xfrm>
            <a:off x="287280" y="4140360"/>
            <a:ext cx="514836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ибаясь ТАК(ЖЕ), как это дел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 матросы, мы побежали к  р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7"/>
          <p:cNvSpPr/>
          <p:nvPr/>
        </p:nvSpPr>
        <p:spPr>
          <a:xfrm>
            <a:off x="287280" y="5400720"/>
            <a:ext cx="5148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кном всё  ТАК(ЖЕ) неисто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ясала метель, выл ве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4"/>
          <p:cNvSpPr/>
          <p:nvPr/>
        </p:nvSpPr>
        <p:spPr>
          <a:xfrm>
            <a:off x="287280" y="1619280"/>
            <a:ext cx="507528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 ТАК(ЖЕ) мягко опускался 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а на землю крупный сне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287280" y="2879640"/>
            <a:ext cx="50752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 вскоре прекратился,  ве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(ЖЕ) зат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287280" y="4140360"/>
            <a:ext cx="507528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осмотреть холмы,  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ли по  долине  пеш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7"/>
          <p:cNvSpPr/>
          <p:nvPr/>
        </p:nvSpPr>
        <p:spPr>
          <a:xfrm>
            <a:off x="287280" y="5400720"/>
            <a:ext cx="50752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нату едва проникал св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(ТО) за ставнями было зной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AutoShape 4"/>
          <p:cNvSpPr/>
          <p:nvPr/>
        </p:nvSpPr>
        <p:spPr>
          <a:xfrm>
            <a:off x="287280" y="1619280"/>
            <a:ext cx="511164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чок говорил протяжно, зву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голоса  ТАК(ЖЕ) изумил ме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287280" y="2879640"/>
            <a:ext cx="511164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а учится в университете,  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(ЖЕ)  хочу поступить т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287280" y="4140360"/>
            <a:ext cx="511164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мы ни делали, мы всег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в ответе за свою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7"/>
          <p:cNvSpPr/>
          <p:nvPr/>
        </p:nvSpPr>
        <p:spPr>
          <a:xfrm>
            <a:off x="287280" y="5400720"/>
            <a:ext cx="511164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укрепить здоровье, нуж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заниматься физкульту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1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607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7"/>
          <p:cNvSpPr/>
          <p:nvPr/>
        </p:nvSpPr>
        <p:spPr>
          <a:xfrm>
            <a:off x="395280" y="5292720"/>
            <a:ext cx="4608360" cy="61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Print"/>
              </a:rPr>
              <a:t>Работа над ошиб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1"/>
          <p:cNvSpPr/>
          <p:nvPr/>
        </p:nvSpPr>
        <p:spPr>
          <a:xfrm>
            <a:off x="2131200" y="324000"/>
            <a:ext cx="50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Segoe Print"/>
              </a:rPr>
              <a:t>Использованн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2"/>
          <p:cNvSpPr/>
          <p:nvPr/>
        </p:nvSpPr>
        <p:spPr>
          <a:xfrm>
            <a:off x="228600" y="828720"/>
            <a:ext cx="8381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 теста – Захарова Т.А., Байдакова Т.Б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.  </a:t>
            </a:r>
            <a:r>
              <a:rPr b="0" lang="ru-RU" sz="1800" spc="-1" strike="noStrike" u="sng">
                <a:solidFill>
                  <a:srgbClr val="6600cc"/>
                </a:solidFill>
                <a:uFillTx/>
                <a:latin typeface="Times New Roman"/>
                <a:ea typeface="Times New Roman"/>
              </a:rPr>
              <a:t>http://www.it-n.ru/board.aspx?cat_no=2168&amp;tmpl=Thread&amp;BoardId=2170&amp;ThreadId=119903&amp;page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  презентации – Лузгина Н.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 мальчика-карандаш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rybinsk-biblioteka.ru/images/stories/foto/filials/cdb/news_cdb/2014/ava_samodelki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content.mycutegraphics.com/graphics/school/yellow-spiral-notebook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ыборка из заданий ЕГЭ (задание 13) сайта «РЕШУ ЕГЭ»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rus.reshuege.ru/test?a=catlistw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огданова Г.А. Уроки русского языка в 7 классе. Книга для учителя. М., Просвещение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3"/>
          <p:cNvSpPr/>
          <p:nvPr/>
        </p:nvSpPr>
        <p:spPr>
          <a:xfrm>
            <a:off x="291960" y="4716360"/>
            <a:ext cx="500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згина Наталья Григо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СОШ № 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Златоуста  Челябин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7">
            <a:hlinkClick r:id="rId2" action="ppaction://hlinksldjump"/>
          </p:cNvPr>
          <p:cNvSpPr/>
          <p:nvPr/>
        </p:nvSpPr>
        <p:spPr>
          <a:xfrm>
            <a:off x="3060720" y="6095880"/>
            <a:ext cx="2951280" cy="468360"/>
          </a:xfrm>
          <a:prstGeom prst="rect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Segoe Print"/>
                <a:ea typeface="Calibri"/>
              </a:rPr>
              <a:t>Начина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4"/>
          <p:cNvSpPr/>
          <p:nvPr/>
        </p:nvSpPr>
        <p:spPr>
          <a:xfrm>
            <a:off x="287280" y="161928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заботилась о раненых Т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ЖЕ) нежно, как и о своих де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0"/>
          <p:cNvSpPr/>
          <p:nvPr/>
        </p:nvSpPr>
        <p:spPr>
          <a:xfrm>
            <a:off x="287280" y="287964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спутники ТО(ЖЕ)  осмотр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 берег,  но  ничего не наш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1"/>
          <p:cNvSpPr/>
          <p:nvPr/>
        </p:nvSpPr>
        <p:spPr>
          <a:xfrm>
            <a:off x="287280" y="4140360"/>
            <a:ext cx="496908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 я делал  без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2"/>
          <p:cNvSpPr/>
          <p:nvPr/>
        </p:nvSpPr>
        <p:spPr>
          <a:xfrm>
            <a:off x="287280" y="540072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если ему  (ТО)ЖЕ,  что 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ребя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6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7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4"/>
          <p:cNvSpPr/>
          <p:nvPr/>
        </p:nvSpPr>
        <p:spPr>
          <a:xfrm>
            <a:off x="287280" y="1619280"/>
            <a:ext cx="514836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 повторил одно и ТО(Ж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 несколько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5"/>
          <p:cNvSpPr/>
          <p:nvPr/>
        </p:nvSpPr>
        <p:spPr>
          <a:xfrm>
            <a:off x="287280" y="2879640"/>
            <a:ext cx="5148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хотел,  ЧТО(БЫ)  все подчин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ь  его коман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6"/>
          <p:cNvSpPr/>
          <p:nvPr/>
        </p:nvSpPr>
        <p:spPr>
          <a:xfrm>
            <a:off x="287280" y="4140360"/>
            <a:ext cx="514836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кнула молния,  ЗА (ТЕМ)  п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ался удар гр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7"/>
          <p:cNvSpPr/>
          <p:nvPr/>
        </p:nvSpPr>
        <p:spPr>
          <a:xfrm>
            <a:off x="287280" y="5400720"/>
            <a:ext cx="5148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ьяна улыбалась редко, ЗА(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ё улыбка всегда пораж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9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AutoShape 4"/>
          <p:cNvSpPr/>
          <p:nvPr/>
        </p:nvSpPr>
        <p:spPr>
          <a:xfrm>
            <a:off x="287280" y="1619280"/>
            <a:ext cx="489600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еан шумел  ТАК(ЖЕ),  как 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нуне веч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5"/>
          <p:cNvSpPr/>
          <p:nvPr/>
        </p:nvSpPr>
        <p:spPr>
          <a:xfrm>
            <a:off x="287280" y="2879640"/>
            <a:ext cx="489600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 я  ни  делала,  у мен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его не получа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6"/>
          <p:cNvSpPr/>
          <p:nvPr/>
        </p:nvSpPr>
        <p:spPr>
          <a:xfrm>
            <a:off x="287280" y="4140360"/>
            <a:ext cx="489600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й эту задачу  ТАК(ЖЕ), 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 ребя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7"/>
          <p:cNvSpPr/>
          <p:nvPr/>
        </p:nvSpPr>
        <p:spPr>
          <a:xfrm>
            <a:off x="287280" y="5400720"/>
            <a:ext cx="489600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хотела,  ЧТО(БЫ)  мы вмес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хали на экскур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AutoShape 4"/>
          <p:cNvSpPr/>
          <p:nvPr/>
        </p:nvSpPr>
        <p:spPr>
          <a:xfrm>
            <a:off x="287280" y="1619280"/>
            <a:ext cx="504036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я ТО(ЖЕ) упорно тренировал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я,  готовясь к соревно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287280" y="2879640"/>
            <a:ext cx="5040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 прозвали так (ЗА)ТО,  что 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верт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287280" y="4140360"/>
            <a:ext cx="504036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логу  очень хотелось, ЧТО(БЫ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 пошло по пл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87280" y="5400720"/>
            <a:ext cx="5040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 обиделся,  (ПО)ЭТОМ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рное, не прид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AutoShape 4"/>
          <p:cNvSpPr/>
          <p:nvPr/>
        </p:nvSpPr>
        <p:spPr>
          <a:xfrm>
            <a:off x="287280" y="1619280"/>
            <a:ext cx="504036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егин  «бранил Гомера, Феокр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, ЗА(ТО) читал Адама Смит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5"/>
          <p:cNvSpPr/>
          <p:nvPr/>
        </p:nvSpPr>
        <p:spPr>
          <a:xfrm>
            <a:off x="287280" y="2879640"/>
            <a:ext cx="5040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(ТОМУ), что говорил дед, я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, что Витька сдержал сло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6"/>
          <p:cNvSpPr/>
          <p:nvPr/>
        </p:nvSpPr>
        <p:spPr>
          <a:xfrm>
            <a:off x="287280" y="4140360"/>
            <a:ext cx="504036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ая вода для растений —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Е) самое, что для нас любов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7"/>
          <p:cNvSpPr/>
          <p:nvPr/>
        </p:nvSpPr>
        <p:spPr>
          <a:xfrm>
            <a:off x="287280" y="5400720"/>
            <a:ext cx="5040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 ни случилось,  Серг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вит товарища в б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4"/>
          <p:cNvSpPr/>
          <p:nvPr/>
        </p:nvSpPr>
        <p:spPr>
          <a:xfrm>
            <a:off x="395280" y="1619280"/>
            <a:ext cx="486108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 шагнул вперед,  я  ТО(Ж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л один ш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395280" y="2879640"/>
            <a:ext cx="4861080" cy="82872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ловеке судят  (ПО)ТОМУ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н говорит и дела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6"/>
          <p:cNvSpPr/>
          <p:nvPr/>
        </p:nvSpPr>
        <p:spPr>
          <a:xfrm>
            <a:off x="395280" y="4140360"/>
            <a:ext cx="486108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благодарил друга  ЗА(ТО)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н выручил  мен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7"/>
          <p:cNvSpPr/>
          <p:nvPr/>
        </p:nvSpPr>
        <p:spPr>
          <a:xfrm>
            <a:off x="395280" y="5400720"/>
            <a:ext cx="4861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 представить,  ЧТО(БЫ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 делал без компьютер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4"/>
          <p:cNvSpPr/>
          <p:nvPr/>
        </p:nvSpPr>
        <p:spPr>
          <a:xfrm>
            <a:off x="287280" y="1619280"/>
            <a:ext cx="496908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ь Андрей встал и подошё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кну,  ЧТО(БЫ)  отворить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287280" y="287964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 в городе ни случило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ька тут как т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287280" y="4140360"/>
            <a:ext cx="496908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авды язык суров,  ЗА(Т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а доб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7"/>
          <p:cNvSpPr/>
          <p:nvPr/>
        </p:nvSpPr>
        <p:spPr>
          <a:xfrm>
            <a:off x="287280" y="540072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я едва передвигал ноги,  Т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а  ТО(ЖЕ) ус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9:43:50Z</dcterms:created>
  <dc:creator>Toshiba</dc:creator>
  <dc:description/>
  <dc:language>en-US</dc:language>
  <cp:lastModifiedBy>fortuna</cp:lastModifiedBy>
  <dcterms:modified xsi:type="dcterms:W3CDTF">2015-04-03T20:58:44Z</dcterms:modified>
  <cp:revision>199</cp:revision>
  <dc:subject/>
  <dc:title>Правописание союз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